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A17-0E11-401A-84C6-4E27EDA4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5DA-0605-4593-B5D4-FD12128C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5EF-AFA5-4D37-A7F8-F809AC52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DA8-07D0-49F6-BD82-C1E8AC62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222-6856-438F-B69F-1DB46920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EFB-B274-4D71-AA55-7669E590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66A-0450-48C0-ACED-9672F4FF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1AD-FBEC-4A4B-B7FB-CE63149F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680-C439-4543-9721-B46B5994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F6E-FEE8-433A-BB04-925A745E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9F6E-5143-4E72-9FB7-C9DCDC9D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9C0-0C9E-4030-8993-548194E9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1800"/>
            <a:ext cx="21715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3453-044A-4D04-8DBF-5CCA9A356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รูปภาพ 27" descr="กระดาษ A 4 พื้นหลัง.jpg"/>
          <p:cNvPicPr/>
          <p:nvPr/>
        </p:nvPicPr>
        <p:blipFill>
          <a:blip r:embed="rId1"/>
          <a:stretch/>
        </p:blipFill>
        <p:spPr>
          <a:xfrm>
            <a:off x="-6480" y="-6480"/>
            <a:ext cx="6870960" cy="9918720"/>
          </a:xfrm>
          <a:prstGeom prst="rect">
            <a:avLst/>
          </a:prstGeom>
          <a:ln w="0">
            <a:noFill/>
          </a:ln>
        </p:spPr>
      </p:pic>
      <p:sp>
        <p:nvSpPr>
          <p:cNvPr id="42" name="สี่เหลี่ยมผืนผ้า 7"/>
          <p:cNvSpPr/>
          <p:nvPr/>
        </p:nvSpPr>
        <p:spPr>
          <a:xfrm>
            <a:off x="0" y="2743200"/>
            <a:ext cx="6865920" cy="1828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6"/>
          <p:cNvSpPr/>
          <p:nvPr/>
        </p:nvSpPr>
        <p:spPr>
          <a:xfrm>
            <a:off x="409680" y="2860560"/>
            <a:ext cx="655308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8560" indent="-898560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(</a:t>
            </a:r>
            <a:r>
              <a:rPr b="0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ร่าง</a:t>
            </a:r>
            <a:r>
              <a:rPr b="0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) </a:t>
            </a:r>
            <a:r>
              <a:rPr b="1" lang="th-TH" sz="38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	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ยุทธศาสตร์ของแผนพัฒนาเศรษฐกิจและสังคมแห่งชาติ ฉบับที่</a:t>
            </a:r>
            <a:r>
              <a:rPr b="1" lang="en-US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 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๑๑ 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(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พ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.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ศ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. 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๒๕๕๕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-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๒๕๕๙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) 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ระดับภาค</a:t>
            </a:r>
            <a:r>
              <a:rPr b="1" lang="en-US" sz="38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รูปภาพ 18" descr="logo1.jpg"/>
          <p:cNvPicPr/>
          <p:nvPr/>
        </p:nvPicPr>
        <p:blipFill>
          <a:blip r:embed="rId2"/>
          <a:stretch/>
        </p:blipFill>
        <p:spPr>
          <a:xfrm>
            <a:off x="2157480" y="378000"/>
            <a:ext cx="725400" cy="695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6"/>
          <p:cNvSpPr/>
          <p:nvPr/>
        </p:nvSpPr>
        <p:spPr>
          <a:xfrm>
            <a:off x="2625840" y="2006640"/>
            <a:ext cx="493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สรุปผลการประชุมระดมความคิดเห็น</a:t>
            </a:r>
            <a:r>
              <a:rPr b="0" lang="en-US" sz="32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5423040" y="9174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เมษายน  ๒๕๕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กลุ่ม 24"/>
          <p:cNvGrpSpPr/>
          <p:nvPr/>
        </p:nvGrpSpPr>
        <p:grpSpPr>
          <a:xfrm>
            <a:off x="2827440" y="533520"/>
            <a:ext cx="4190760" cy="642600"/>
            <a:chOff x="2827440" y="533520"/>
            <a:chExt cx="4190760" cy="642600"/>
          </a:xfrm>
        </p:grpSpPr>
        <p:sp>
          <p:nvSpPr>
            <p:cNvPr id="48" name="TextBox 7"/>
            <p:cNvSpPr/>
            <p:nvPr/>
          </p:nvSpPr>
          <p:spPr>
            <a:xfrm>
              <a:off x="2827440" y="533520"/>
              <a:ext cx="41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215968"/>
                  </a:solidFill>
                  <a:latin typeface="TH SarabunPSK"/>
                  <a:cs typeface="TH SarabunPSK"/>
                </a:rPr>
                <a:t>สำนักงานคณะกรรมการพัฒนาการเศรษฐกิจและสังคมแห่งชาต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ตัวเชื่อมต่อตรง 21"/>
            <p:cNvSpPr/>
            <p:nvPr/>
          </p:nvSpPr>
          <p:spPr>
            <a:xfrm>
              <a:off x="2935080" y="901800"/>
              <a:ext cx="3886200" cy="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รูปภาพ 16" descr="SSA52501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22860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รูปภาพ 20" descr="IMG_5519.jpg"/>
          <p:cNvPicPr/>
          <p:nvPr/>
        </p:nvPicPr>
        <p:blipFill>
          <a:blip r:embed="rId4"/>
          <a:stretch/>
        </p:blipFill>
        <p:spPr>
          <a:xfrm>
            <a:off x="228600" y="132228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52" name="รูปภาพ 22" descr="DSC08541.JPG"/>
          <p:cNvPicPr/>
          <p:nvPr/>
        </p:nvPicPr>
        <p:blipFill>
          <a:blip r:embed="rId5"/>
          <a:stretch/>
        </p:blipFill>
        <p:spPr>
          <a:xfrm>
            <a:off x="228600" y="4572000"/>
            <a:ext cx="190512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รูปภาพ 24" descr="DSCF6391.JPG"/>
          <p:cNvPicPr/>
          <p:nvPr/>
        </p:nvPicPr>
        <p:blipFill>
          <a:blip r:embed="rId6"/>
          <a:stretch/>
        </p:blipFill>
        <p:spPr>
          <a:xfrm>
            <a:off x="228600" y="6019920"/>
            <a:ext cx="1905120" cy="1447560"/>
          </a:xfrm>
          <a:prstGeom prst="rect">
            <a:avLst/>
          </a:prstGeom>
          <a:ln w="0">
            <a:noFill/>
          </a:ln>
        </p:spPr>
      </p:pic>
      <p:pic>
        <p:nvPicPr>
          <p:cNvPr id="54" name="รูปภาพ 29" descr="IMG_5619.jpg"/>
          <p:cNvPicPr/>
          <p:nvPr/>
        </p:nvPicPr>
        <p:blipFill>
          <a:blip r:embed="rId7"/>
          <a:stretch/>
        </p:blipFill>
        <p:spPr>
          <a:xfrm>
            <a:off x="228600" y="74106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55" name="รูปภาพ 30" descr="IMG_5620.jpg"/>
          <p:cNvPicPr/>
          <p:nvPr/>
        </p:nvPicPr>
        <p:blipFill>
          <a:blip r:embed="rId8"/>
          <a:srcRect l="0" t="0" r="0" b="25327"/>
          <a:stretch/>
        </p:blipFill>
        <p:spPr>
          <a:xfrm>
            <a:off x="228600" y="8839080"/>
            <a:ext cx="19051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6:42:59Z</dcterms:created>
  <dc:creator>surapol-s</dc:creator>
  <dc:description/>
  <dc:language>en-US</dc:language>
  <cp:lastModifiedBy>haruethai</cp:lastModifiedBy>
  <dcterms:modified xsi:type="dcterms:W3CDTF">2011-04-01T08:44:13Z</dcterms:modified>
  <cp:revision>95</cp:revision>
  <dc:subject/>
  <dc:title>ภาพนิ่ง 1</dc:title>
</cp:coreProperties>
</file>